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8BD-E234-4799-9624-64E4E07C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553-FD74-4828-A943-99BC7217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ED3-F981-432B-BFBC-5DB2547E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383-02DD-4269-9830-F95B50E6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002-30BC-4EFC-8868-5F073AA3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A19-1532-4CAC-811D-71E3043B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F12-97F2-4524-B0FF-3D42ED70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245-7BB9-4E46-9BDE-260E6A7E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40E-AFA6-425A-B50D-B3889C5B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A9B-B7CA-4D13-8AE8-0087F3C2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439-731C-44C3-8D10-DC694853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EE2-A836-41EE-AA26-E286BA2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BA6F-7B46-410F-A987-76C75F4F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52560" y="2238480"/>
            <a:ext cx="3638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0" y="2138400"/>
            <a:ext cx="3333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47:00Z</dcterms:created>
  <dc:creator>SUZANNE.MD</dc:creator>
  <dc:description/>
  <dc:language>en-US</dc:language>
  <cp:lastModifiedBy>HANI SAFI</cp:lastModifiedBy>
  <dcterms:modified xsi:type="dcterms:W3CDTF">2003-04-16T13:11:01Z</dcterms:modified>
  <cp:revision>2</cp:revision>
  <dc:subject/>
  <dc:title>PowerPoint Presentation</dc:title>
</cp:coreProperties>
</file>